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6432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D9A-4A83-4035-855E-82AFED8A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9FC-06E9-4C9A-982B-08E821BB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952-FAAA-4464-BED0-8E0EE589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694-E64E-42A1-9309-A4D795D2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7137-1F50-4328-9FD2-509C1FFE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4D8C-3386-4FA4-AB28-5EA94A15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E18C-AFAA-473A-B5C1-44D1676F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D044-8A51-4CB1-8A8C-F0909B5F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3860-9E62-4BA1-8BA8-6B512B9D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782C-A952-4423-ABC5-FC059F23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523E-9223-43C1-85A6-F34BE195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142-E922-4A68-903C-BE688FE3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A2D6-4B77-4701-9F60-FFECDCC5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E3B9-5C15-4EDD-9F22-ADFAF98C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C4FF-AD75-44A2-90A5-8FEB59FB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C374-0D88-4FA7-A84B-1FAC7420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1FBE-D1BA-4C77-B79B-91CA0EC7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2B9-BCFE-4790-B929-5BE67056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AAF-4A02-46AD-922E-57880C12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2AA-B79C-4390-AB84-1C7D3227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F0D-DF0C-4DF8-B05E-00900BB0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D80-3E3E-4E9C-A470-E220FDB5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89B-83F2-4195-9A32-6FABCC80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C52-87E0-4953-B108-0DB80504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318000" y="-2847960"/>
            <a:ext cx="1800" cy="2520"/>
            <a:chOff x="-6318000" y="-2847960"/>
            <a:chExt cx="1800" cy="2520"/>
          </a:xfrm>
        </p:grpSpPr>
        <p:sp>
          <p:nvSpPr>
            <p:cNvPr id="1" name=""/>
            <p:cNvSpPr/>
            <p:nvPr/>
          </p:nvSpPr>
          <p:spPr>
            <a:xfrm>
              <a:off x="-6316560" y="-2847600"/>
              <a:ext cx="360" cy="36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6318000" y="-2847960"/>
              <a:ext cx="773094112920" cy="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600" y="62481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Arial"/>
              </a:rPr>
              <a:t>Université Paris 7 – IUT Paris Jussieu – Licence Professionnelle LPGI 200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Intervenant Gabriel Rosenthal septembre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7B62-EB71-48C8-9760-221DD135D6F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D76B-4A3E-4909-9A4E-AA3811504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HAT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4572000" cy="2046240"/>
          </a:xfrm>
          <a:prstGeom prst="rect">
            <a:avLst/>
          </a:prstGeom>
          <a:ln w="0">
            <a:noFill/>
          </a:ln>
        </p:spPr>
      </p:pic>
      <p:pic>
        <p:nvPicPr>
          <p:cNvPr id="89" name="messager_1" descr=""/>
          <p:cNvPicPr/>
          <p:nvPr/>
        </p:nvPicPr>
        <p:blipFill>
          <a:blip r:embed="rId2"/>
          <a:stretch/>
        </p:blipFill>
        <p:spPr>
          <a:xfrm>
            <a:off x="1523880" y="3886200"/>
            <a:ext cx="4023000" cy="2251080"/>
          </a:xfrm>
          <a:prstGeom prst="rect">
            <a:avLst/>
          </a:prstGeom>
          <a:ln w="0">
            <a:noFill/>
          </a:ln>
        </p:spPr>
      </p:pic>
      <p:pic>
        <p:nvPicPr>
          <p:cNvPr id="90" name="TITRE" descr=""/>
          <p:cNvPicPr/>
          <p:nvPr/>
        </p:nvPicPr>
        <p:blipFill>
          <a:blip r:embed="rId3"/>
          <a:stretch/>
        </p:blipFill>
        <p:spPr>
          <a:xfrm>
            <a:off x="838080" y="685800"/>
            <a:ext cx="7121520" cy="685800"/>
          </a:xfrm>
          <a:prstGeom prst="rect">
            <a:avLst/>
          </a:prstGeom>
          <a:ln w="0">
            <a:noFill/>
          </a:ln>
        </p:spPr>
      </p:pic>
      <p:pic>
        <p:nvPicPr>
          <p:cNvPr id="91" name="morpheus2" descr=""/>
          <p:cNvPicPr/>
          <p:nvPr/>
        </p:nvPicPr>
        <p:blipFill>
          <a:blip r:embed="rId4"/>
          <a:stretch/>
        </p:blipFill>
        <p:spPr>
          <a:xfrm>
            <a:off x="4572000" y="2209680"/>
            <a:ext cx="3962520" cy="2978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Travaux pratiques : le m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MLEL1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5219640" cy="4364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Travaux pratiques : le m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MEL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018200" cy="3828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Arial"/>
              </a:rPr>
              <a:t>Travaux pratiques : liste de diffusion - news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CLUB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6858000" cy="4303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Les forums de discu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286000"/>
            <a:ext cx="7696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onsulter des for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s’abonner à des for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usage public et pri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forums usenet et forums proprié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Exemple : forum de discu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FORUM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943600" cy="4316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00"/>
                </a:solidFill>
                <a:latin typeface="Arial"/>
              </a:rPr>
              <a:t>Le chat, et chat événementi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286000"/>
            <a:ext cx="7696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onsulter un sa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participer à une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aller dans un salon pri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quel usage pour l’entrepri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Arial"/>
              </a:rPr>
              <a:t>Exemple : chat sur wanado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553080" cy="418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Arial"/>
              </a:rPr>
              <a:t>Exemple : chat événementi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CHATEV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696080" cy="4457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Arial"/>
              </a:rPr>
              <a:t>Travaux pratiques : messagerie instantan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057400"/>
            <a:ext cx="769608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charger le plug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se créer une liste de correspond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communiq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usages public/pri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messager_1" descr=""/>
          <p:cNvPicPr/>
          <p:nvPr/>
        </p:nvPicPr>
        <p:blipFill>
          <a:blip r:embed="rId1"/>
          <a:stretch/>
        </p:blipFill>
        <p:spPr>
          <a:xfrm>
            <a:off x="1905120" y="4267080"/>
            <a:ext cx="3276360" cy="1833840"/>
          </a:xfrm>
          <a:prstGeom prst="rect">
            <a:avLst/>
          </a:prstGeom>
          <a:ln w="0">
            <a:noFill/>
          </a:ln>
        </p:spPr>
      </p:pic>
      <p:pic>
        <p:nvPicPr>
          <p:cNvPr id="138" name="messager_2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303640" cy="403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00"/>
                </a:solidFill>
                <a:latin typeface="Arial"/>
              </a:rPr>
              <a:t>Les échanges : le peer to 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22860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harger le logic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hercher un morceau de mu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quel usage pour l’entrepri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Objectifs :</a:t>
            </a:r>
            <a:r>
              <a:rPr b="1" lang="fr-FR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omprendre les </a:t>
            </a:r>
            <a:r>
              <a:rPr b="1" lang="fr-FR" sz="2800" spc="-1" strike="noStrike">
                <a:solidFill>
                  <a:srgbClr val="008000"/>
                </a:solidFill>
                <a:latin typeface="Arial"/>
              </a:rPr>
              <a:t>usages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de la communication </a:t>
            </a:r>
            <a:r>
              <a:rPr b="1" lang="fr-FR" sz="2800" spc="-1" strike="noStrike">
                <a:solidFill>
                  <a:srgbClr val="cc99ff"/>
                </a:solidFill>
                <a:latin typeface="Arial"/>
              </a:rPr>
              <a:t>sur internet et intra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Utiliser les </a:t>
            </a:r>
            <a:r>
              <a:rPr b="1" lang="fr-FR" sz="2800" spc="-1" strike="noStrike">
                <a:solidFill>
                  <a:srgbClr val="008000"/>
                </a:solidFill>
                <a:latin typeface="Arial"/>
              </a:rPr>
              <a:t>outils de communications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dans un contexte professionnel</a:t>
            </a:r>
            <a:r>
              <a:rPr b="1" lang="fr-FR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cc99ff"/>
                </a:solidFill>
                <a:latin typeface="Arial"/>
              </a:rPr>
              <a:t>sur internet et intra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Internet, </a:t>
            </a:r>
            <a:r>
              <a:rPr b="1" lang="fr-FR" sz="2800" spc="-1" strike="noStrike">
                <a:solidFill>
                  <a:srgbClr val="cc99ff"/>
                </a:solidFill>
                <a:latin typeface="Arial"/>
              </a:rPr>
              <a:t>ou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intra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ommunication grand public </a:t>
            </a:r>
            <a:r>
              <a:rPr b="1" lang="fr-FR" sz="2800" spc="-1" strike="noStrike">
                <a:solidFill>
                  <a:srgbClr val="cc99ff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ommunication d’ent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Des outils de communications identiques </a:t>
            </a:r>
            <a:r>
              <a:rPr b="1" lang="fr-FR" sz="2800" spc="-1" strike="noStrike">
                <a:solidFill>
                  <a:srgbClr val="cc99ff"/>
                </a:solidFill>
                <a:latin typeface="Arial"/>
              </a:rPr>
              <a:t>pour des usages diffé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Travail à fa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Créer une boîte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Créer une liste de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Analyse de s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ff"/>
                </a:solidFill>
                <a:latin typeface="Arial"/>
              </a:rPr>
              <a:t>Le cœur de métier et les principaux prod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ff"/>
                </a:solidFill>
                <a:latin typeface="Arial"/>
              </a:rPr>
              <a:t>Les publics ciblé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ff"/>
                </a:solidFill>
                <a:latin typeface="Arial"/>
              </a:rPr>
              <a:t>Les outils de communications utilis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ff"/>
                </a:solidFill>
                <a:latin typeface="Arial"/>
              </a:rPr>
              <a:t>Partager son analyse sur la liste de dif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ff"/>
                </a:solidFill>
                <a:latin typeface="Arial"/>
              </a:rPr>
              <a:t>Commentez et enrichir l’analyse des autres étudi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Evalu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nalyse de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articipation à la liste de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Moyen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2 cours + travaux pratiques + é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1er cours sur Internet, Intranet et les outils d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Utilisation des outils de communications de l’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2 ème cours : synthèse et partage des expé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Evaluation : analyse d’un site et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Dé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Outils de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ommunication d’ent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Définitions :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Le plus grand réseau informatique mo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Un protocole commun 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des usages multiples : </a:t>
            </a:r>
            <a:r>
              <a:rPr b="1" lang="fr-FR" sz="2400" spc="-1" strike="noStrike">
                <a:solidFill>
                  <a:srgbClr val="cc99ff"/>
                </a:solidFill>
                <a:latin typeface="Arial"/>
              </a:rPr>
              <a:t>communication, commerce, divertissement, information, rencontres, formation, échang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Définitions : intranet :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réseau d’ent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un protocole commun 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des cibles pour l’entreprise :, </a:t>
            </a:r>
            <a:r>
              <a:rPr b="1" lang="fr-FR" sz="2400" spc="-1" strike="noStrike">
                <a:solidFill>
                  <a:srgbClr val="cc99ff"/>
                </a:solidFill>
                <a:latin typeface="Arial"/>
              </a:rPr>
              <a:t>personnel, partenaires, actionnair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des usages pour l’entreprise : </a:t>
            </a:r>
            <a:r>
              <a:rPr b="1" lang="fr-FR" sz="2400" spc="-1" strike="noStrike">
                <a:solidFill>
                  <a:srgbClr val="cc99ff"/>
                </a:solidFill>
                <a:latin typeface="Arial"/>
              </a:rPr>
              <a:t>communication, information, partage, applications, forma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Dé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Communication d’entrepris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bjectifs :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 communication institutionnelle, ou commer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Cibles :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 clients, actionnaires, fournisseurs, partenaires, personnels, pro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Moyens :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 plan média et hors média, cross mé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286000"/>
            <a:ext cx="7696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Mél avec ses dérivés, newsletter, liste de 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Forums de discussion, news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hat, chat événement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Messagerie instantan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Le partage de fich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Travaux pratiques : le mé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86000"/>
            <a:ext cx="7696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se créer une boîte aux let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réer une liste de 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usage public et pri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liste de 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08:49:59Z</dcterms:created>
  <dc:creator>FTF</dc:creator>
  <dc:description/>
  <dc:language>en-US</dc:language>
  <cp:lastModifiedBy>france telecom</cp:lastModifiedBy>
  <cp:lastPrinted>2002-10-08T14:56:10Z</cp:lastPrinted>
  <dcterms:modified xsi:type="dcterms:W3CDTF">2003-09-24T18:30:51Z</dcterms:modified>
  <cp:revision>29</cp:revision>
  <dc:subject/>
  <dc:title>Form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ENTRAVERSION">
    <vt:lpwstr>Version 6.0.15</vt:lpwstr>
  </property>
</Properties>
</file>